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979880" cy="37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689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24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24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24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24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81EC67-902A-4AA7-B9DA-CA777D486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F69-BD05-4C1A-87B1-84B9A3DC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843-1663-4923-8932-18668147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447-019E-44FF-8AFA-87947BA1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392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420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392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420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0F5-9E84-4F1F-9AEB-6ED3EF7C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50A4-CA29-43FA-A75E-E52A2BCD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0167-7695-4ACD-A97E-C9239FA2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715-E1DC-478E-9E60-9A018A52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684C-2D44-4B93-8912-D069CBDB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5B27-555F-451D-B951-6FF07619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160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2696-C150-445E-BCEB-81AF6B31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FE68-3EB2-4A38-A433-572AAE4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B9E-B313-4096-997E-A74AF259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59A4-ACB9-489C-AA91-D85D86F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9D03-CF50-4211-A791-540CC4F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AFCE-1E55-4EB3-83AF-52ECBB63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DE39-4F5F-4D30-890D-2B449F15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392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420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392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420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DC77-C0B7-4443-864F-4EFEBB6D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FB69-83F1-41C7-B2F3-E6ECD9D5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2B0B-B8A3-4530-A8C2-F5C8E1D9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A484-7A6F-4B4D-BB7D-CD9C52ED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A2A6-41B9-490F-827F-B3F286DD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6C3D-CC3F-4856-A357-9BE46990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122-E076-45D4-8E30-7D926BA6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160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BFF6-8552-4676-8008-8C3386B2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5D8B-2AC9-44FA-BC82-3CF89519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0440-883B-4B79-ACE2-A2DA136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61DE-B706-40BE-BCA2-8EBD5849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7EEA-E08E-4471-BFFB-F2B2C300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175B-1A70-43D8-BA69-3A93054D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5392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0420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5392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0420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8802-A843-456C-B47B-A2CD4621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0129-9B89-4003-8A3F-AA318993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2303-2C21-4870-AF3B-2FCDC247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4F7A-0E87-47E6-B296-44D30D28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860-2429-4A75-BCB7-04C7438C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C0F1E-04C1-486B-92E2-69312D63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00B6F-46B6-4263-82DB-CB9EB613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160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F780-FC92-4FAA-A89B-4A18C6E0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D2AF-5DBF-40C7-9CC9-EA2E50E0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3F43-AC6A-4F9A-8A9F-E5BD69B8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97F6-DCA5-449D-996B-19906FF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B6D3E-E257-4AF9-90D6-B3D7141E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2E70-BECD-450F-BEF0-E794ADD6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5392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0420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5392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0420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D457-8DFA-40EB-AE62-E29EF7D9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87D-AFF9-4789-A0A5-77A11015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160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CFA-FDDD-4BA5-8539-AC52EFCE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D2F-258A-4C29-B831-0362E7B0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B39-31D0-4AEE-B92B-2BCD25A2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2C5-4DCC-4C9B-AA81-EDC87FC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29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46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29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260E60-4E61-4C3C-9BF1-B379B86BF7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1836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1872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2953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431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080"/>
            <a:ext cx="22957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585DA-EEE0-4E20-997D-6FE989D25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1836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1872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2953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431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5920" y="6886080"/>
            <a:ext cx="22957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54279-09ED-435B-A73A-3064AF25F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1836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1872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2953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431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5920" y="6886080"/>
            <a:ext cx="22957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B8E3E-1CD7-4D0F-9910-AB76AF181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docs.google.com/spreadsheets/d/16-7CvRxNEcpX4k25sYjcV3G4XoqYFwvGXn1W0fv3CAQ/edit?usp=sharing" TargetMode="External"/><Relationship Id="rId2" Type="http://schemas.openxmlformats.org/officeDocument/2006/relationships/hyperlink" Target="http://ic3.cat/wikicfu/index.php/Tools/s2dverification#Development" TargetMode="External"/><Relationship Id="rId3" Type="http://schemas.openxmlformats.org/officeDocument/2006/relationships/hyperlink" Target="https://gitlab.cfu.local/cfu/s2dverification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55640" y="1403280"/>
            <a:ext cx="70563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s2dverific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meeting – 09/12/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ri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4896000"/>
            <a:ext cx="4103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2dverification@s2dverification.ic3.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5640" y="1403280"/>
            <a:ext cx="705636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Curren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view SCRUM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view Wiki on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view GitLab (issues &amp; M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mments &amp;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5640" y="1403280"/>
            <a:ext cx="884556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Latest release: s2dverification 2.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On C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N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Enhanced develop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New GIT branching scheme, use of GitLab, testing procedure + script to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Test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Load obs only, plot stereo map, plot ACC, corr level signif, colorbar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54520" y="6472080"/>
            <a:ext cx="182520" cy="18288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54520" y="676116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54520" y="704844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1403280"/>
            <a:ext cx="884556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Untest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Prob bins, CRPS, ACC permutation, load extreme, load 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Featur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Generalised load, deactivate 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Load glor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Next release: s2dverification 2.2.0? 3.0.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54520" y="222408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54520" y="251316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4520" y="280044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1403280"/>
            <a:ext cx="884556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eview SCRUM document</a:t>
            </a:r>
            <a:br>
              <a:rPr sz="5400"/>
            </a:b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ocs.google.com/spreadsheets/d/16-7CvRxNEcpX4k25sYjcV3G4XoqYFwvGXn1W0fv3CAQ/edit?usp=sharing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eview Wiki on developing</a:t>
            </a:r>
            <a:br>
              <a:rPr sz="5400"/>
            </a:b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c3.cat/wikicfu/index.php/Tools/s2dverification#Development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eview GitLab</a:t>
            </a:r>
            <a:br>
              <a:rPr sz="5400"/>
            </a:b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gitlab.cfu.local/cfu/s2dverific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55640" y="1403280"/>
            <a:ext cx="705636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ents &amp; reques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Melanie Davis</cp:lastModifiedBy>
  <cp:lastPrinted>2013-09-09T17:33:01Z</cp:lastPrinted>
  <dcterms:modified xsi:type="dcterms:W3CDTF">2013-06-29T13:34:33Z</dcterms:modified>
  <cp:revision>0</cp:revision>
  <dc:subject/>
  <dc:title/>
</cp:coreProperties>
</file>